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1930-6DA0-4AC8-B9DD-3B79C3A23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8396-5B62-432A-86CF-0AFE9418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94ADEC-9514-4F60-8452-CE499E66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69A43-088D-4DE6-AB52-49116331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E3B7B-3C68-4308-8367-964A1CD2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70375B-A970-4BAF-AFB9-45246C4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CB2C1D-EF5B-4406-87F8-4934D631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35D93A-A15C-4779-B497-076FE435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73DA9C-8E24-4036-AA5E-911E968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DC10F7-DF96-48DC-99E7-08BD6E80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125494-CC97-419B-BFD3-F336D435D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3487-5EB4-48C0-A77F-AA3CDCC5B1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D277-205A-4A22-B0B3-69B18CC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8E08-E722-49AE-8CD1-C5B11ED4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1FD5-C4CC-4A99-8015-132BD483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AD60-0266-480B-B5E3-0A3BA7AF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8F5B7-7DD6-4C6B-9F12-D5E211CD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3D74-5BB2-4F5E-B666-362020FF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4502F-1179-47D9-A31A-BD2E62C9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FCA6-1E89-4CFE-A701-F9EA7D2D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FCE6-134C-42D7-A649-5D665117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E7A3-6AEE-402D-B4A6-09C4AF64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FC296-B62C-4CA4-91E5-43B9D75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A91A-9261-4E59-A5A0-2DD06FC56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69935-9D0E-43EE-858E-2AE5022F7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1CE94-F326-42A4-8390-2038C03571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0BEA0-2BB6-4A47-B58A-F8CF5CC7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A5DDFF-A659-49A7-BAFB-39750574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46F09-B39F-496C-9631-A9F4A991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0EC0C-B817-42FB-AAF3-71437135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46560-6E11-4401-81D3-ECF98A22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3B89E-89C3-4DF3-96BC-666974D3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541CA8-00FE-413E-BCF3-351F75A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F42D2-952D-4E8C-B4B3-77746222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BCDB2-2035-4A02-9095-7DDDD396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A14B43-AEBC-45BF-B8BA-D18BD83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6D395-62BB-4B54-A655-ECC1767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4C0A0-3C92-4798-AF1E-3BE89B517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6A7FB-509C-4236-BCEF-8BF64761E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D87E8-F134-4F08-AB14-EAB7815C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71EB6-1D7D-4628-B238-1C27E709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E0C76-E6B1-4E03-AB6A-4552F89B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4AF2A-0EA6-4FDD-8D6B-17F23318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56DC3-B6F0-4750-834A-A931228E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7CDA7-4F6C-4AD9-B899-9053FF9A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5B403-8E52-4DF2-A1E5-3705C906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1176C-A850-42AB-B8DC-81370E26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69E7A-A39E-413E-9F5F-5301502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A13F9-C7DF-442C-AC49-37D60DA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21FCF-A865-41EF-B85B-0FA19831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AF6B3-41FC-4313-9F08-C97BA92F2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2DA66-4E5F-4442-9D96-68FBD86AC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B148-DE34-4C8E-A7F1-09F816E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7BE26-C97A-4E1D-8E8F-6DBE52AA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88D55-E5F8-4F60-8822-67455223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2A33E-7F96-4E57-A9CE-03482518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9424B-4DE3-4D17-97BA-DDB43B9A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94B98-FDB2-462B-9BF7-C417F771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383B6-85D4-44E4-A4DB-B2C1AF3C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9364F-85F2-43E0-9DF0-FDCEB42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21890-F82C-4E73-9B51-8773B3C7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81313-DFDB-48EB-9794-359499B0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944CC-A0EA-44BF-8ADF-0B0899B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CC3CB-EDC9-4DA5-92F9-D5A2F0B61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A586C-0DBB-4B96-9378-B3C90193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2D4C1-AA3D-43A8-8F7B-BE573741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282F8-B979-4D6A-8E77-A382D751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8AB97-5458-4BB9-89E5-13D2917E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68A36-1157-482D-8A86-861658B5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32883-0855-48C3-A573-75D5EB5B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85571-5D50-4A22-903B-C140C29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F4699-F1B2-40A1-A79C-ECF98C0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443D8-79E0-4CF4-80BD-277CBB3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61D82-608B-44E7-A777-4EB529B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75686-996C-4188-B2F8-26E7F58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979F-7CE2-46B0-8E1B-03953279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E31BC-0D9B-424C-BBF6-22A332D5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17862-1BEA-45D5-B108-E6321271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CF04A-B97B-4CF1-9827-A3529055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11F17-F8D3-4144-A941-5F21371B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03186-C4E1-4F9A-BA7E-6BEBFFB6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D7A3C-3BD1-4AAB-AE41-99A9E8FE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43B2D-0691-40A8-BF44-748F3E49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A5A92-DED0-4219-8F65-9227EEC2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0118A-0160-49E3-AFFA-B505297E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F455B-3444-440A-B795-222BC93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DC45F-6424-4A8E-84D0-C7D9535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12BAF-87CC-413E-A760-E263949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6C2C5-1FE7-468F-9ADF-66B16234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7C70A-6EFE-4BDD-8816-03E31348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0E513-A55B-4905-B658-61AC8CD6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5B2BC-A199-4D14-863E-ADFF815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7B0F0-6E53-4EEB-BCE9-CA3C9FC6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67572-C787-4048-8659-2356A65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510B3-7A5D-419C-AFB2-454B8987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93E40-48B8-4254-A86E-03C29057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03E05-802F-4B64-81D2-9684255E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E4ABE-AA2C-44F8-85D1-18EDB24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3362A-3730-46D7-A8C2-676996F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0D15-364E-4C57-9089-D2E1D4C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C8D3-0D02-4923-AE53-1D1A74DA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A4F5D-611D-4D27-AEC3-9D790400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43BED-62BC-4352-8338-76A2F935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74837-4BBC-4374-8A46-91F801EC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F512C-A5A5-44BC-9666-8F9824BB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87041-2562-4F99-A815-1C4A710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03474-DF33-4841-8639-3DF4D71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EA5E9-16E4-4896-843A-0CD03064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5FDC0-7F8F-4284-9DD5-5D61A8A1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3837D-9DBA-4CA8-B542-629552DB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C99B0-2D7B-488C-AC28-1835862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AAA1-6620-4ABE-835F-D84A261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E21A-637D-4DA9-B79D-D1F26F1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FF10A-F8A4-41AF-94A2-8B9D081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9C47E-9919-4267-A28E-5E6C000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C5462-9641-4F58-8FFB-33571EF9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4117F-5DFA-4EBC-B9DF-D4A556F9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DD780-47AC-4855-9FFD-169B2B65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5904A-C06F-4CD2-9B6A-B14D3B10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56461-5A8B-445C-90B8-1376AEF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0B940-4958-474B-925A-7B06BFD3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EF408-3687-48CD-A83D-3A4853D0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4DF04-ED44-44E5-AB52-2F769D42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56B1-40F2-425B-A1AF-EA8C1B43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86F12-5388-434B-B78C-B31183D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56161-B6AD-4B2A-BB98-7B2E4A5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AEFD4-B76C-450E-B9F4-16BE06B8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A7433-B8CC-46BB-B4C4-9B52959C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D1EA0-B719-4EA2-8AA5-590FE7A0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380C9-E30F-4C86-85F2-4FC7B055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C2E29-30AB-449D-9BDA-175F6655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78A9E-3B10-4122-9618-0384B2D2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797D3-F051-48BF-9DC6-F302FE29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E094E-883A-4251-865C-4249E80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C256-D754-4926-B1F7-E3A6EB9A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76F51-9000-4422-88D9-4FB5A89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9DDA3-8DC1-4E4E-9CB0-86EA5B22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B7EF3-B062-420E-8BDF-9C579412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9F0D0-3470-43A0-A66E-7398AA7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F36F0-19E2-4D81-B268-F548DB54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C3B3F-06D9-4CA8-82A8-4012199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73026-AB7C-4AC6-A561-2E97DAB2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ED3DB-EE4C-4825-BFB2-54C9BDC8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C3B2B-0758-4E64-9B19-3DE4637A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B11F0-74B6-4203-9500-FB38BFCE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0B9CD-920A-437A-A057-D75FF045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48D8C-DBFF-483E-9E87-039D3812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D24B7-232E-4C6A-9458-BA7B6400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42E0B-058A-49ED-8772-A41B8F80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05C3C-A6A3-4BBF-9AC4-4E4CF4D5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95D05-91F2-4CAA-9605-34B04C8D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453BA-D458-40A8-951D-53F5D40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097C4-0C03-4EB2-A1BF-FAB80E6B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88BE1-F638-41ED-BCF9-55A578A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0B8D4-814A-4716-A1A0-DFDF9B5F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A55DD-198B-4D13-A7DE-8523349B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99663-FF3D-431E-955D-1B652528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8C019-FF7B-4DB1-A159-2ADA5362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60443-B719-4BD2-A932-68526DBD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4DE49-5266-4FB4-858B-A251EBAD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5256D-76EB-447D-B724-AF235DDB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D882B-F551-42A1-B4C4-82E4B056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061FC-10A2-4321-A2C5-EAD4C546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2F509-1231-49CA-8A36-CB606E29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001D1-C71A-428F-A6C8-5656BB8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80C67-9439-44F6-966E-270F04B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F66A2-6CA0-488F-9AD4-D91F990C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24CCA-F6B2-4DBD-B654-6A5A73330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56B97-65D9-44DA-A183-32312E8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5AB3D-2139-42EE-B2F2-6ABB281C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7706E-C5D8-4B3A-A9E9-8AC06637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03CB52-A005-4692-9B88-3498A8AF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6AFBB4-9EA1-43EF-BA43-F4E9CCE8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B05BD-CE2F-40BD-B1C3-6AF7C7FB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8EC1D-EE37-4750-BD04-08F2536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8E4EE-E41B-4C30-A2E2-75873E76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B4023-8302-40E3-A95E-D926C06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9352C-D3E0-4154-BD1D-4657F9A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41F6E-7186-45FE-845F-6099C76E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318DE-69AB-4071-80C2-CC61F6F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E8A72-511E-4488-8774-09CCCA3E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9C69C-A99F-48CD-ADFD-439EF584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B77D5-C9FC-4D98-8261-4DDC43CA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54900-4B43-42C3-8840-D8F09DC5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AE8A7-0882-40C4-9F13-2BDB60A7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950FB6-DD34-4D79-811B-87A64535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EEDBF-484B-4ED7-92AB-A1E2D2B5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09F9D-EBD6-4E42-ACA6-66A4E29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B4284-2669-4DC6-B16F-CCE67EF0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86307C-D8A7-416D-B7DE-FFFD7096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57139-7972-4834-A4ED-2A593A84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66806-C16D-4753-B4C9-AECBCD2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947CE-63A1-43FA-9D34-6FE84AD5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4FEDA-A027-4DBA-81DE-D9CCA72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45E00-A2C0-4F6B-A16A-EDFC137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804EC-43AB-481B-BCF0-0156771C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9DEF8-03E5-4CD5-B1CC-7414AAF4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8EE89-FB11-4DB6-8714-98E2FD6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2E125-F4A8-493D-9093-CBC26339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50AC5-1CC0-4EF1-ADE0-AA908ACC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DC84A-5601-415B-A572-0F4826F8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241BE-E474-45C7-BC92-5BBACE8B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2B857-FBBD-4F47-9017-993F1D7F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E7541-F1B2-4096-B649-A83DF5B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74C22-FD8D-46B3-9AAD-EE5E9A6A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95E41-FE18-4E7A-B8D1-1B5083A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3F930-01D1-439F-8EB1-AA6C77D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B0E03-FD35-46B1-A64D-D2B4E1E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F46446-6E4B-4AE5-B131-332D2880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D5BF4-9C89-4916-B4FB-05977D10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A8759-7BEF-44C2-AFD5-AF80EFC4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CC6D-E957-4734-93A4-A1E0AC4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7E55A-53B2-4F70-B728-C60D7034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A3BEB-C3EF-410B-B9ED-93795686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8A5BC-6DDB-4168-94E4-444ADF0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0CCE6-0010-4280-934B-3FDC7E99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A831B-78F8-4554-B3D2-1ED7F231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5FE45-7107-4178-8428-77AAA85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0EDC6-4333-4C50-88AB-6899B424A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B78A-81B8-4D41-84A4-82DAB68C4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AFD9A-AA5F-46B7-BE0E-12976D40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78A1-525A-4073-AAAB-F7B607B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3EF4-9BC0-454B-9CE5-2654F327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B7CD-9A1D-4018-BA60-9E5F3199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803E-CC80-4FD8-B665-681F0F30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70D2-0442-4B68-A6A6-57C3DC8A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13C0-DB21-4755-940E-F2D14E4C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8DF6-6B86-47DF-9E8F-CDC54CC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A653-3A10-4FD4-B058-D8AB962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38E7-F2FF-44AF-9339-6D8D300B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F8B9-9C55-4BE0-B727-134FD03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17ED-4687-4E0D-A2E9-A10D59FD9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7693C-148A-41F4-B0EA-A3E8B2EF5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4BA9-7987-457F-99F0-B6E798CD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CEE70-2B2B-43C6-9333-8B8E899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A4A80-41F7-40D0-813C-D975F7E2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FA6E7-B830-4485-BC9C-5055714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7AC03-D0ED-417C-8625-FCFAB86B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22D67-C544-49F1-851D-50FEFDE1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59294-F0E9-4C12-B921-7D1288D2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14390-1194-4980-BB50-E24049EA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7D6AB-8972-45C6-8821-C03795F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878C6-0718-4BA6-BF20-85E47C4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68F53-AA24-49B8-B99E-1EC3B81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D8FC-6C72-42BB-843B-2B5FFD31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4085D-15A1-4965-BF72-32AC51315C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42FD6-001C-48FC-A8BA-8E1480B9A5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2A54F-8E1C-4373-8C9E-F62BEB34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6173A-A664-4DC7-859B-CEC7981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D33B41-3AEA-49B0-AD7C-1542E14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CF18E-4D93-4447-8857-533E1A0F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D8D8A-BF8F-4868-84FB-C4270B22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D26E21-8F47-407B-98CA-73E1BC2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C7E5CB-086E-4ED9-8E4C-0F1E8A4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33273-E3D5-4B88-89CB-F0AACE40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6E04-303B-46D4-85A7-8A174DFC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23DAD3-6176-43F7-8CCA-A356EB99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0C38D-0DD7-4ACE-A551-3B57FCB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468B1B-D15A-4675-A874-DE6075D52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282E-CC08-403E-B575-5F1CD135B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3F89-29BD-4E0D-9DB9-DFD51737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0F39F-1249-4443-A095-3B01D71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E63E-E6AC-4FE5-BD0D-CD338E5F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F8A6-53BA-4E3F-9C97-97957C28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E3F1-F6D3-4E34-AE4E-56A36E4E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B16F-37D8-4919-A1A4-3F28C067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5BB4-1CD4-4BA1-8167-DE97F080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8E915-9869-4514-9918-9669BC2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F90EE-05F2-4A33-A711-39E78980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4EC2-9E70-46EF-8F2E-1263974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C6D7-5BE1-45D0-82EC-1DC47FF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04CDD-3DB1-465D-8D27-48CCC7A8A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87E7A-E69D-4F34-90E4-7F552D6D8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AE9D1-CA2A-4458-83CB-786C6804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3B85F-C115-43C7-AF0C-0EC2B7E7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35A1B-66EC-4FAC-82CC-13AFCC2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4C814-8E88-4C25-A1F7-E1ACA61B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2551-D517-476C-BE31-3A76946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A11CA-B591-4085-B31B-A7AE9C31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D4AE5-C36C-42EC-9253-C689ED41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B340E-745E-4AAA-951D-90B915B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4ADE1-0BB7-4ABB-AB95-8F972925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DC2D1-0735-4170-BE79-0AC87946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0F45B-0E7E-4037-A54C-4B47EBDB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2B0FE-B9C1-48B3-B716-6F3F55127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4932A1-8130-487A-ACFC-D939A45E4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F0422B-E680-4AE1-8EDE-273C3F1F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DD96E-0041-47C2-9A46-AF8735E2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D0CB-6DEC-457B-8BD0-7A2E931D98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F1C9-0280-4479-9454-C8742839D1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869C-1E8F-4643-8722-6C09AA2E27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1045-E1C5-43FD-A4FF-0FD42193DC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B4B-D260-472D-AA28-681FB8FBBA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7D0C-C72E-40E0-B837-899859355C0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3A81-F9AB-46FC-B788-C511E9696E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D019-1EA2-4C5A-97D1-63383EEAE8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DC2C-88BA-4B02-B4B4-D2EBD52B12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6F46-A721-45C5-8240-E2261E7A3A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3971-E1A4-4BE1-9654-01EB859964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0397-A8D2-400C-A03A-158A26E05E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A849-52F3-448A-9699-32A532BC93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39C5-8B94-40DC-9E2E-E6FD1FF6FF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0C5C-331E-41A8-A43B-228FB3D801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3EF3-D6E5-4B5D-B2A0-5298719E5B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4901-06DC-4045-9DE2-860D54DC0F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A0AA-5A30-4EB1-ABAA-30AA15F80B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E7C-0B83-46C4-8AEC-DCE1B40A99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BB8F-632B-4463-92A6-9248F70D82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A1B1-ABD8-4E4E-929D-9CFF57A760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5424-BAA2-442E-8203-303BA32DFA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ED54-CB88-453B-BDA7-6E02869F4B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4CFE-6322-4B0D-BB94-EB0C402C4D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35160" y="282744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79864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 决 问 题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度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65040" y="747360"/>
            <a:ext cx="875520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辨一辨（对的在括号里打“√”，错的打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张单人床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。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块橡皮擦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。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支自动水笔的长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。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小红爸爸的身高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。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的木棒要比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的铁丝短一些。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5" name="Text Box 72"/>
          <p:cNvSpPr/>
          <p:nvPr/>
        </p:nvSpPr>
        <p:spPr>
          <a:xfrm>
            <a:off x="8106840" y="1814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72"/>
          <p:cNvSpPr/>
          <p:nvPr/>
        </p:nvSpPr>
        <p:spPr>
          <a:xfrm>
            <a:off x="8169840" y="227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72"/>
          <p:cNvSpPr/>
          <p:nvPr/>
        </p:nvSpPr>
        <p:spPr>
          <a:xfrm>
            <a:off x="8106840" y="2666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72"/>
          <p:cNvSpPr/>
          <p:nvPr/>
        </p:nvSpPr>
        <p:spPr>
          <a:xfrm>
            <a:off x="8169840" y="3160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2"/>
          <p:cNvSpPr/>
          <p:nvPr/>
        </p:nvSpPr>
        <p:spPr>
          <a:xfrm>
            <a:off x="8169840" y="359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65040" y="84420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选一选（把正确答案的序号填在括号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下面三条线中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       ②         ③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要知道学校的操场有多长，应该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角尺     ②米尺    ③卷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你的椅子大约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棵树的高度大约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(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    ②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未知"/>
          <p:cNvSpPr/>
          <p:nvPr/>
        </p:nvSpPr>
        <p:spPr>
          <a:xfrm>
            <a:off x="932040" y="2571840"/>
            <a:ext cx="554040" cy="352440"/>
          </a:xfrm>
          <a:custGeom>
            <a:avLst/>
            <a:gdLst/>
            <a:ahLst/>
            <a:rect l="l" t="t" r="r" b="b"/>
            <a:pathLst>
              <a:path w="154" h="98">
                <a:moveTo>
                  <a:pt x="0" y="0"/>
                </a:moveTo>
                <a:cubicBezTo>
                  <a:pt x="5" y="13"/>
                  <a:pt x="7" y="50"/>
                  <a:pt x="38" y="69"/>
                </a:cubicBezTo>
                <a:cubicBezTo>
                  <a:pt x="68" y="88"/>
                  <a:pt x="131" y="94"/>
                  <a:pt x="154" y="9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19"/>
          <p:cNvGrpSpPr/>
          <p:nvPr/>
        </p:nvGrpSpPr>
        <p:grpSpPr>
          <a:xfrm>
            <a:off x="2155680" y="2571840"/>
            <a:ext cx="532080" cy="366120"/>
            <a:chOff x="2155680" y="2571840"/>
            <a:chExt cx="532080" cy="366120"/>
          </a:xfrm>
        </p:grpSpPr>
        <p:sp>
          <p:nvSpPr>
            <p:cNvPr id="1174" name="Line 20"/>
            <p:cNvSpPr/>
            <p:nvPr/>
          </p:nvSpPr>
          <p:spPr>
            <a:xfrm flipH="1">
              <a:off x="2183760" y="2610000"/>
              <a:ext cx="459000" cy="30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21"/>
            <p:cNvSpPr/>
            <p:nvPr/>
          </p:nvSpPr>
          <p:spPr>
            <a:xfrm>
              <a:off x="2651760" y="257184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AutoShape 22"/>
            <p:cNvSpPr/>
            <p:nvPr/>
          </p:nvSpPr>
          <p:spPr>
            <a:xfrm>
              <a:off x="2155680" y="290196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15"/>
          <p:cNvGrpSpPr/>
          <p:nvPr/>
        </p:nvGrpSpPr>
        <p:grpSpPr>
          <a:xfrm>
            <a:off x="3462840" y="2455920"/>
            <a:ext cx="452880" cy="487080"/>
            <a:chOff x="3462840" y="2455920"/>
            <a:chExt cx="452880" cy="487080"/>
          </a:xfrm>
        </p:grpSpPr>
        <p:sp>
          <p:nvSpPr>
            <p:cNvPr id="1178" name="AutoShape 16"/>
            <p:cNvSpPr/>
            <p:nvPr/>
          </p:nvSpPr>
          <p:spPr>
            <a:xfrm>
              <a:off x="3822480" y="245592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17"/>
            <p:cNvSpPr/>
            <p:nvPr/>
          </p:nvSpPr>
          <p:spPr>
            <a:xfrm>
              <a:off x="3517560" y="290700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 rot="3000000">
              <a:off x="3632040" y="2451600"/>
              <a:ext cx="114120" cy="495360"/>
            </a:xfrm>
            <a:custGeom>
              <a:avLst/>
              <a:gdLst/>
              <a:ahLst/>
              <a:rect l="l" t="t" r="r" b="b"/>
              <a:pathLst>
                <a:path w="180" h="936">
                  <a:moveTo>
                    <a:pt x="0" y="0"/>
                  </a:moveTo>
                  <a:cubicBezTo>
                    <a:pt x="90" y="104"/>
                    <a:pt x="180" y="208"/>
                    <a:pt x="180" y="312"/>
                  </a:cubicBezTo>
                  <a:cubicBezTo>
                    <a:pt x="180" y="416"/>
                    <a:pt x="0" y="520"/>
                    <a:pt x="0" y="624"/>
                  </a:cubicBezTo>
                  <a:cubicBezTo>
                    <a:pt x="0" y="728"/>
                    <a:pt x="150" y="884"/>
                    <a:pt x="180" y="9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文本框 1"/>
          <p:cNvSpPr/>
          <p:nvPr/>
        </p:nvSpPr>
        <p:spPr>
          <a:xfrm>
            <a:off x="3583440" y="193824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2"/>
          <p:cNvSpPr/>
          <p:nvPr/>
        </p:nvSpPr>
        <p:spPr>
          <a:xfrm>
            <a:off x="6429600" y="2968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3"/>
          <p:cNvSpPr/>
          <p:nvPr/>
        </p:nvSpPr>
        <p:spPr>
          <a:xfrm>
            <a:off x="3566520" y="39942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4"/>
          <p:cNvSpPr/>
          <p:nvPr/>
        </p:nvSpPr>
        <p:spPr>
          <a:xfrm>
            <a:off x="4439880" y="5006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14"/>
          <p:cNvSpPr/>
          <p:nvPr/>
        </p:nvSpPr>
        <p:spPr>
          <a:xfrm>
            <a:off x="4765680" y="28684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你知道它的高度是多少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25" descr="旗杆"/>
          <p:cNvPicPr/>
          <p:nvPr/>
        </p:nvPicPr>
        <p:blipFill>
          <a:blip r:embed="rId1"/>
          <a:stretch/>
        </p:blipFill>
        <p:spPr>
          <a:xfrm>
            <a:off x="1760400" y="708120"/>
            <a:ext cx="1470240" cy="5643360"/>
          </a:xfrm>
          <a:prstGeom prst="rect">
            <a:avLst/>
          </a:prstGeom>
          <a:ln w="0">
            <a:noFill/>
          </a:ln>
        </p:spPr>
      </p:pic>
      <p:grpSp>
        <p:nvGrpSpPr>
          <p:cNvPr id="100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1" name="Text Box 5"/>
          <p:cNvSpPr/>
          <p:nvPr/>
        </p:nvSpPr>
        <p:spPr>
          <a:xfrm>
            <a:off x="466560" y="117360"/>
            <a:ext cx="288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一、新知导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1"/>
          <p:cNvSpPr/>
          <p:nvPr/>
        </p:nvSpPr>
        <p:spPr>
          <a:xfrm>
            <a:off x="3708360" y="1252440"/>
            <a:ext cx="52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根旗杆的高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25" name="组合 2"/>
          <p:cNvGrpSpPr/>
          <p:nvPr/>
        </p:nvGrpSpPr>
        <p:grpSpPr>
          <a:xfrm>
            <a:off x="385920" y="890640"/>
            <a:ext cx="1883880" cy="459720"/>
            <a:chOff x="385920" y="890640"/>
            <a:chExt cx="1883880" cy="459720"/>
          </a:xfrm>
        </p:grpSpPr>
        <p:sp>
          <p:nvSpPr>
            <p:cNvPr id="1026" name="TextBox 3"/>
            <p:cNvSpPr/>
            <p:nvPr/>
          </p:nvSpPr>
          <p:spPr>
            <a:xfrm>
              <a:off x="490320" y="89064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缺角矩形 37"/>
            <p:cNvSpPr/>
            <p:nvPr/>
          </p:nvSpPr>
          <p:spPr>
            <a:xfrm>
              <a:off x="385920" y="10112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文本框 4"/>
          <p:cNvSpPr/>
          <p:nvPr/>
        </p:nvSpPr>
        <p:spPr>
          <a:xfrm>
            <a:off x="344520" y="1233360"/>
            <a:ext cx="84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判断旗杆的高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要依据我们头脑中形成的米和厘米的长度单位空间观念，结合物体的实际长度，选用正确的长度单位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38"/>
          <p:cNvGrpSpPr/>
          <p:nvPr/>
        </p:nvGrpSpPr>
        <p:grpSpPr>
          <a:xfrm>
            <a:off x="390600" y="3151080"/>
            <a:ext cx="2147400" cy="459720"/>
            <a:chOff x="390600" y="3151080"/>
            <a:chExt cx="2147400" cy="459720"/>
          </a:xfrm>
        </p:grpSpPr>
        <p:sp>
          <p:nvSpPr>
            <p:cNvPr id="1030" name="TextBox 3"/>
            <p:cNvSpPr/>
            <p:nvPr/>
          </p:nvSpPr>
          <p:spPr>
            <a:xfrm>
              <a:off x="495000" y="31510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缺角矩形 40"/>
            <p:cNvSpPr/>
            <p:nvPr/>
          </p:nvSpPr>
          <p:spPr>
            <a:xfrm>
              <a:off x="390600" y="3271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文本框 6"/>
          <p:cNvSpPr/>
          <p:nvPr/>
        </p:nvSpPr>
        <p:spPr>
          <a:xfrm>
            <a:off x="487440" y="367020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认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的长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在尺子上是一格，一根手指大约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就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手指并排起来的宽度，大约相当于小朋友一拃的长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4" name="文本框 1"/>
          <p:cNvSpPr/>
          <p:nvPr/>
        </p:nvSpPr>
        <p:spPr>
          <a:xfrm>
            <a:off x="571680" y="835200"/>
            <a:ext cx="80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一拃的长度和旗杆的高度比一比，显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不合适。旗杆比一个小朋友的身高高很多，相当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小朋友的身高，所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比较合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41"/>
          <p:cNvGrpSpPr/>
          <p:nvPr/>
        </p:nvGrpSpPr>
        <p:grpSpPr>
          <a:xfrm>
            <a:off x="808200" y="2905200"/>
            <a:ext cx="2147400" cy="459720"/>
            <a:chOff x="808200" y="2905200"/>
            <a:chExt cx="2147400" cy="459720"/>
          </a:xfrm>
        </p:grpSpPr>
        <p:sp>
          <p:nvSpPr>
            <p:cNvPr id="1046" name="TextBox 3"/>
            <p:cNvSpPr/>
            <p:nvPr/>
          </p:nvSpPr>
          <p:spPr>
            <a:xfrm>
              <a:off x="912600" y="290520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缺角矩形 43"/>
            <p:cNvSpPr/>
            <p:nvPr/>
          </p:nvSpPr>
          <p:spPr>
            <a:xfrm>
              <a:off x="808200" y="30258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文本框 6"/>
          <p:cNvSpPr/>
          <p:nvPr/>
        </p:nvSpPr>
        <p:spPr>
          <a:xfrm>
            <a:off x="824040" y="3498840"/>
            <a:ext cx="77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旗杆的高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56"/>
          <p:cNvSpPr/>
          <p:nvPr/>
        </p:nvSpPr>
        <p:spPr>
          <a:xfrm>
            <a:off x="1709280" y="2870280"/>
            <a:ext cx="548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zh-CN" sz="3000" spc="-1" strike="noStrike">
                <a:solidFill>
                  <a:srgbClr val="0000cc"/>
                </a:solidFill>
                <a:latin typeface="宋体"/>
                <a:ea typeface="宋体"/>
              </a:rPr>
              <a:t>选择合适的单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们的教室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      黑板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明身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       课桌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7"/>
          <p:cNvSpPr/>
          <p:nvPr/>
        </p:nvSpPr>
        <p:spPr>
          <a:xfrm>
            <a:off x="1129680" y="1655640"/>
            <a:ext cx="337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0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）教材第</a:t>
            </a:r>
            <a:r>
              <a:rPr b="0" lang="en-US" sz="30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页“做一做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8"/>
          <p:cNvSpPr/>
          <p:nvPr/>
        </p:nvSpPr>
        <p:spPr>
          <a:xfrm>
            <a:off x="3857760" y="37432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59"/>
          <p:cNvSpPr/>
          <p:nvPr/>
        </p:nvSpPr>
        <p:spPr>
          <a:xfrm>
            <a:off x="3502080" y="4464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60"/>
          <p:cNvSpPr/>
          <p:nvPr/>
        </p:nvSpPr>
        <p:spPr>
          <a:xfrm>
            <a:off x="7386480" y="37432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61"/>
          <p:cNvSpPr/>
          <p:nvPr/>
        </p:nvSpPr>
        <p:spPr>
          <a:xfrm>
            <a:off x="7390080" y="44686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6" name="Text Box 5"/>
          <p:cNvSpPr/>
          <p:nvPr/>
        </p:nvSpPr>
        <p:spPr>
          <a:xfrm>
            <a:off x="466560" y="117360"/>
            <a:ext cx="28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组合 2"/>
          <p:cNvGrpSpPr/>
          <p:nvPr/>
        </p:nvGrpSpPr>
        <p:grpSpPr>
          <a:xfrm>
            <a:off x="-46080" y="87480"/>
            <a:ext cx="3245040" cy="527040"/>
            <a:chOff x="-46080" y="87480"/>
            <a:chExt cx="3245040" cy="527040"/>
          </a:xfrm>
        </p:grpSpPr>
        <p:pic>
          <p:nvPicPr>
            <p:cNvPr id="106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4400" y="8748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组合 4"/>
            <p:cNvGrpSpPr/>
            <p:nvPr/>
          </p:nvGrpSpPr>
          <p:grpSpPr>
            <a:xfrm>
              <a:off x="-46080" y="182520"/>
              <a:ext cx="430200" cy="274680"/>
              <a:chOff x="-46080" y="182520"/>
              <a:chExt cx="430200" cy="274680"/>
            </a:xfrm>
          </p:grpSpPr>
          <p:sp>
            <p:nvSpPr>
              <p:cNvPr id="1070" name="椭圆 11"/>
              <p:cNvSpPr/>
              <p:nvPr/>
            </p:nvSpPr>
            <p:spPr>
              <a:xfrm rot="16200000">
                <a:off x="197280" y="34740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2080" y="31068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椭圆 29"/>
              <p:cNvSpPr/>
              <p:nvPr/>
            </p:nvSpPr>
            <p:spPr>
              <a:xfrm rot="16200000">
                <a:off x="197280" y="22032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2080" y="19728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6080" y="32688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080" y="2984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6080" y="21060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6080" y="1825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8" name="Text Box 69"/>
          <p:cNvSpPr/>
          <p:nvPr/>
        </p:nvSpPr>
        <p:spPr>
          <a:xfrm>
            <a:off x="539640" y="1459080"/>
            <a:ext cx="8290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填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支铅笔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书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操场的旗杆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粉笔长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72"/>
          <p:cNvSpPr/>
          <p:nvPr/>
        </p:nvSpPr>
        <p:spPr>
          <a:xfrm>
            <a:off x="3073680" y="2195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74"/>
          <p:cNvSpPr/>
          <p:nvPr/>
        </p:nvSpPr>
        <p:spPr>
          <a:xfrm>
            <a:off x="6993360" y="2195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75"/>
          <p:cNvSpPr/>
          <p:nvPr/>
        </p:nvSpPr>
        <p:spPr>
          <a:xfrm>
            <a:off x="7660080" y="29098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83"/>
          <p:cNvSpPr/>
          <p:nvPr/>
        </p:nvSpPr>
        <p:spPr>
          <a:xfrm>
            <a:off x="3554640" y="292104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70"/>
          <p:cNvSpPr/>
          <p:nvPr/>
        </p:nvSpPr>
        <p:spPr>
          <a:xfrm>
            <a:off x="611280" y="642960"/>
            <a:ext cx="8083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这是小明早上写的一篇日记，我们一起来看一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早晨，我从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长的床上起床，用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米长的牙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刷牙，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长的毛巾洗脸。吃完早饭，急忙骑上自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车，以每分钟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的速度到离家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远的学校去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学，路上还碰到了身高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65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米的王老师。到了学校，我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拿出厚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米的课本看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</a:t>
            </a:r>
            <a:r>
              <a:rPr b="0" lang="zh-CN" sz="3600" spc="-1" strike="noStrike">
                <a:solidFill>
                  <a:srgbClr val="0070c0"/>
                </a:solidFill>
                <a:latin typeface="方正楷体简体"/>
                <a:ea typeface="方正楷体简体"/>
              </a:rPr>
              <a:t>哪里出错了？请你改一改。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76"/>
          <p:cNvSpPr/>
          <p:nvPr/>
        </p:nvSpPr>
        <p:spPr>
          <a:xfrm>
            <a:off x="3203640" y="183528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78"/>
          <p:cNvSpPr/>
          <p:nvPr/>
        </p:nvSpPr>
        <p:spPr>
          <a:xfrm>
            <a:off x="6526440" y="1844640"/>
            <a:ext cx="45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80"/>
          <p:cNvSpPr/>
          <p:nvPr/>
        </p:nvSpPr>
        <p:spPr>
          <a:xfrm>
            <a:off x="6269040" y="3244680"/>
            <a:ext cx="58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81"/>
          <p:cNvSpPr/>
          <p:nvPr/>
        </p:nvSpPr>
        <p:spPr>
          <a:xfrm>
            <a:off x="3396960" y="3308400"/>
            <a:ext cx="31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85"/>
          <p:cNvSpPr/>
          <p:nvPr/>
        </p:nvSpPr>
        <p:spPr>
          <a:xfrm>
            <a:off x="684360" y="3308400"/>
            <a:ext cx="31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86"/>
          <p:cNvSpPr/>
          <p:nvPr/>
        </p:nvSpPr>
        <p:spPr>
          <a:xfrm>
            <a:off x="4892760" y="4363920"/>
            <a:ext cx="45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86"/>
          <p:cNvSpPr/>
          <p:nvPr/>
        </p:nvSpPr>
        <p:spPr>
          <a:xfrm>
            <a:off x="2486160" y="5483160"/>
            <a:ext cx="45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直接连接符 17"/>
          <p:cNvSpPr/>
          <p:nvPr/>
        </p:nvSpPr>
        <p:spPr>
          <a:xfrm>
            <a:off x="3214800" y="1558800"/>
            <a:ext cx="64296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直接连接符 20"/>
          <p:cNvSpPr/>
          <p:nvPr/>
        </p:nvSpPr>
        <p:spPr>
          <a:xfrm>
            <a:off x="6299280" y="2997360"/>
            <a:ext cx="43344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直接连接符 21"/>
          <p:cNvSpPr/>
          <p:nvPr/>
        </p:nvSpPr>
        <p:spPr>
          <a:xfrm>
            <a:off x="6572160" y="1558800"/>
            <a:ext cx="28584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直接连接符 23"/>
          <p:cNvSpPr/>
          <p:nvPr/>
        </p:nvSpPr>
        <p:spPr>
          <a:xfrm>
            <a:off x="3348000" y="2924280"/>
            <a:ext cx="50328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直接连接符 24"/>
          <p:cNvSpPr/>
          <p:nvPr/>
        </p:nvSpPr>
        <p:spPr>
          <a:xfrm>
            <a:off x="4978440" y="4071960"/>
            <a:ext cx="285840" cy="21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直接连接符 25"/>
          <p:cNvSpPr/>
          <p:nvPr/>
        </p:nvSpPr>
        <p:spPr>
          <a:xfrm>
            <a:off x="2570040" y="5183280"/>
            <a:ext cx="285840" cy="21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32"/>
          <p:cNvSpPr/>
          <p:nvPr/>
        </p:nvSpPr>
        <p:spPr>
          <a:xfrm>
            <a:off x="158760" y="134136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示物体的高度或长度，一定要看清单位前面的数，二要用正确的单位。当物体比较长时，选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比较合适，较短时，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425520" y="100332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在（   ）里填上适当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黑板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(     )                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窗户的高大约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刀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               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钉的长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视屏幕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(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     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语文书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视塔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0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     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领巾最长的边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桌的长大约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筷子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3" name="Text Box 72"/>
          <p:cNvSpPr/>
          <p:nvPr/>
        </p:nvSpPr>
        <p:spPr>
          <a:xfrm>
            <a:off x="2262960" y="155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2"/>
          <p:cNvSpPr/>
          <p:nvPr/>
        </p:nvSpPr>
        <p:spPr>
          <a:xfrm>
            <a:off x="2238840" y="2062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2"/>
          <p:cNvSpPr/>
          <p:nvPr/>
        </p:nvSpPr>
        <p:spPr>
          <a:xfrm>
            <a:off x="3156480" y="2557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72"/>
          <p:cNvSpPr/>
          <p:nvPr/>
        </p:nvSpPr>
        <p:spPr>
          <a:xfrm>
            <a:off x="2908080" y="305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72"/>
          <p:cNvSpPr/>
          <p:nvPr/>
        </p:nvSpPr>
        <p:spPr>
          <a:xfrm>
            <a:off x="4033440" y="3575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72"/>
          <p:cNvSpPr/>
          <p:nvPr/>
        </p:nvSpPr>
        <p:spPr>
          <a:xfrm>
            <a:off x="7738920" y="155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72"/>
          <p:cNvSpPr/>
          <p:nvPr/>
        </p:nvSpPr>
        <p:spPr>
          <a:xfrm>
            <a:off x="7121880" y="205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72"/>
          <p:cNvSpPr/>
          <p:nvPr/>
        </p:nvSpPr>
        <p:spPr>
          <a:xfrm>
            <a:off x="6920280" y="255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72"/>
          <p:cNvSpPr/>
          <p:nvPr/>
        </p:nvSpPr>
        <p:spPr>
          <a:xfrm>
            <a:off x="8198280" y="307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72"/>
          <p:cNvSpPr/>
          <p:nvPr/>
        </p:nvSpPr>
        <p:spPr>
          <a:xfrm>
            <a:off x="7401600" y="359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01:28:53Z</dcterms:created>
  <dc:creator/>
  <dc:description/>
  <dc:language>en-US</dc:language>
  <cp:lastModifiedBy>万润仪器贸易公司</cp:lastModifiedBy>
  <dcterms:modified xsi:type="dcterms:W3CDTF">2020-08-21T00:26:29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